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9B2-AC79-4C35-AF43-AEEF052B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141-C394-4C60-AD31-D338BBF9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226-0B79-4EC6-9F2C-A8CE6D44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21B-B529-490D-B712-5F348F7C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26BD-5386-452F-A05C-C9B0152E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A5D-DBCB-4C41-A477-8FF3F12C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8C4B-7EED-4F4A-8850-F6233C19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95A8-8A35-4036-B569-F68C3091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C30F-B772-43C5-A085-A9C52ACC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2A8-EC55-4CB8-AC2C-39BCC364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8FDB-0F21-49E7-AF9F-15008B3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E73-BD30-4498-B291-06A7D1BD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DD1F-6967-4292-8138-954513D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40E7-C73C-44E5-B4CC-3885ED6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294F-278B-4F80-80DF-86EC8BD7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60DD-3934-495B-A04C-025518B9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7963-DD64-4BF3-9A00-C2CB2A98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170-3F12-4E0B-A22C-C98AA340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CFA-8138-4B7C-A1BA-A6B8BBDD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E99-184B-4F82-9B59-CB44D207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A51-8992-4A9B-A20C-75DEFC2D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9B0-66F7-4326-81B4-060A233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93A-E2F5-444A-82E0-DCE9209C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BCF-98FD-40BF-8A70-E982349B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B317-F2C4-4C7A-8245-A640E6202FCC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A4AA-A763-4030-9840-BD77E8ABCF49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nstructional Support/6, 7, 8/iSquad Session 1 of 2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File Management for MAC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Icon 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28735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4400" y="1752480"/>
            <a:ext cx="152280" cy="99072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reating New Folder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Why would we want to                      create new folders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y We Create          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New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rganize document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d files faster and easi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rst, choose “New Folder” from the File menu in the Finder Window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-33" t="48" r="36" b="1231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3428640" y="57780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ext, type the name of the new folder when the words are highlight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 flipV="1">
            <a:off x="2971800" y="4572000"/>
            <a:ext cx="457200" cy="137160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n, drag your documents into the fold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3886200" y="2895480"/>
            <a:ext cx="1752480" cy="45720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are files and folders organized on a computer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create a system to organize files and folders on our computer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ally, highlight the name of your new fold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 flipH="1">
            <a:off x="3200040" y="2819520"/>
            <a:ext cx="1523880" cy="22860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oose the color you would like to use from the File Menu in the Finder Window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V="1">
            <a:off x="609480" y="228240"/>
            <a:ext cx="457200" cy="60948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590560" y="4083120"/>
            <a:ext cx="16002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you will have a chance to practicing making and naming a new fold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rag a document into the folder once it has been creat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ange the color of the new fold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repara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efore you begin, think about ways that you might want to organize your file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rganizing Fi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8480" t="14427" r="14845" b="28126"/>
          <a:stretch/>
        </p:blipFill>
        <p:spPr>
          <a:xfrm>
            <a:off x="231840" y="1844640"/>
            <a:ext cx="87627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rite down the names of folders you would like to creat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reate your new fold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rag documents into the fold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ange the colors of the folders. Practicing switching between list, column and icon view in the Find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id you organize                         your computer files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already know how to create documents and download files on your computer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 this session you will learn how to organize your computer so it is easier to find files and informat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Using the Finder Windo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 a MAC, the “Finder” window is where you can find all of your files, applications and documen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80520" y="5029200"/>
            <a:ext cx="1219320" cy="129528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rganizing your files      with Find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re are three ways to view your information within the Finder: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ist, column and icon view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52680" y="36576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72200" y="367668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st 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27320" y="1616040"/>
            <a:ext cx="0" cy="121932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olumn 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1828800"/>
            <a:ext cx="304560" cy="99072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2-28T02:38:27Z</dcterms:modified>
  <cp:revision>12</cp:revision>
  <dc:subject/>
  <dc:title>Workshop Title</dc:title>
</cp:coreProperties>
</file>